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1.wmf" ContentType="image/x-wmf"/>
  <Override PartName="/ppt/media/image5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3.jpeg" ContentType="image/jpeg"/>
  <Override PartName="/ppt/media/image15.png" ContentType="image/png"/>
  <Override PartName="/ppt/media/image9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nticipating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- likely student responses to mathematical tas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onitoring 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- monitoring students’ actual responses to the tasks (while students work on the task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lec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quenc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onnec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t is imperative that the feedback is linked back to the learning goals for the students.  We will be talking about learning goals and big ideas this week -related to proportional reasoning - and making that link between our responses to students and these goal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Lets start with a math problem.  Here is a probability problem.  We would like you think about making quick responses to student solutio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ork in pairs.  Each of you will solve the problem on your own - thinking of ways a student might approach the proble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e have provided coloured counters and bags on the table if you wish to use the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1)  respond (paper and oral explanation), partner responds as teac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2)  swit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at did you notice? What could be the goal of this task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Here are some possible questions we came up with for student responses - in particular students who may be stuck or not recognizing the need for a third colour of marble in the bag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’m going to show you a kindergarten aged student work on a problem.  The book “Bennies Pennies” was read to her - and then we asked her the following ques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Benny has 12 new shiny pennies.  He used the same number of pennies for each thing he buy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How many things did he bu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How much was ea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atch the video clip of her response and how she worked through the problem, given 12 pennies to work with - and then I will stop the clip and we will talk about questio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e question helps young students think abut equal groups - working towards proportional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- also to realize that some groups work (equally, like 1’s, 2’s, 3’s, and 4’s) but some do not work like 5’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- open enough question - a kid can start with 1 penny, 12 thing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- here are some sample questions that you can use to respond to the girl in the video cl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nother counting coins question:  I’m giving you 2 dimes, 4 nickels, and 3 pennies.  How would you count the coins to see how much money there is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 will show you a couple of video clips of students responding to this question.  After each one, we will give you a chance to think about what you would say to those students in the video if you were the teacher there with the studen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e learning goal for this problem can be about unitizing - using 10, 20, 30 or 5, 10, 15 - to make it more efficient in finding the amount of money t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tudents should realize that dimes are faster, nickels are next, then pennies las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Video 1 - counting co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urn and talk with your elbow partn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at did you notice?  what would you say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tudent chose pennies first and counted by ones, except with the dime - where she went from 9 to 19.  I think that it would be helpful to respond - thinking of connecting this student to the order of counting - what order to do this in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Here are a couple of questions we came up with to ask the stud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Video 2 - counting co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gain, talk to your partner.  What did you notice this time?  What would you say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The Book of Awesome, Neil Pasrich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tudent counts 5, 10, 15, 20....then counts with dimes - by ones again 21, 22, 2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tudent can skip count only when it starts with zero.  eg.  cannot count from 23-33 using a di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erhaps this question:  When you count with the nickels, you count by 5’s and you did this quickly.  How come when you counted with the dimes, it was slower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video 3 - counting co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s is an example of a great student response to the question - shows proportional thinking and an efficient way to find the total amount in coi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 fraction is a bit more than 2/3.  What could it b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goal of this question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y use “a bit mor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realize that if you rename a fraction it can help you solve a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let’s see how students dealt with this question and how we would respond to them - in the moment.   Keep in mind your anticipated responses and the learning goal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video 1 - greater than 2/3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at did you notice about the students when they solved the proble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at would you say to them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irst in your pairs - decide what your response may b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en share with another pair at your table.  How were they similar?  differen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(notice that reactions and responses can be different for different teachers - why is that?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o - is 3/4 okay?  is this the answer you had in mind?  the one that you came up with when solving it with your partner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do you need to use percentages to know if it is bigger than 2/3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an these students use some other strategy to find a fraction larger then 2/3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vide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ame as before - talk with a partner and decide on your response.  Then share with another pair at your t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- students are using equivalence to solve this probl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- great approach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- perhaps asking this question:  Help me understand why you used twelfth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Question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lenary 2 and 4 are focussed on responding to student work and giving effective feedback to students - but still thinking about proportional reasoning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lenary 2 is about responding to students in the moment - usually in the classroom, and when you may be under more pressure to respond quick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Because we are talking about “quick responses” - I thought I would share here the Quick Response Code for the Edugains site - if you have code reader on your cell phone - you can download the direct link to our Math GAINS websit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Responses to questions can be collected - and you can be given some time to think about what your eventual feedback will be...as in this examp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eedback strategies can vary in timing - when given and how of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e can focus on good feedback - “in the moment” - providing immediate feedba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or we can delay feedback slightly for more comprehensive reviews of student thinking and process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ffective feedback is timely. Delay in providing students feedback diminishes its value for learning (Banger-Drowns, Kulik, Kulik, &amp; Morgan, 199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- never delay feedback beyond when it would make a difference to stud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rioritize - pick the most important points - whether it is in the moment or with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lways choose points or questions that relate to major learning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onsider the student’s developmental 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nd sometimes - there isn’t a need to give much feedback - an excellent approach or solution to a task or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ndividual feedback “teacher values my learning” - able to work on specific responses to student work or ques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group/class feed back works if most of the class or group of students missed the same concept - and this presents an opportunity for teach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commonly - feedback is discussed with these in mi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Focused feedback - is it focussed on the task, such as a misconception?  or is it focussed on the process - how they approached the task, or possible alternative strateg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Comparison feedback - is comparing the work to previous work, or established criter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Important to be clear and that students understand the feedback as you intend i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Specific - what did you observe in the work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how important is our response to students in the math classroom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roviding the right kind of feedback to students can make a significant difference in their achie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eedback has been shown to be one of the most significant activities a teacher can engage in to improve student achievement (Hattie, 199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en feedback is corrective in nature—that is, it explains where and why students have made errors--significant increases in student learning occur (Lysakowski &amp; Walberg, 1981, 1982; Walberg, 1999; Tennenbaum &amp; Goldring, 1989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Based on research conducted by Black and William (1998), teacher feedback is most effective when three conditions are in place. The student should know: 1) what a good performance on the given assignment looks like; 2) how their present performance relates to a good performance; and 3) how to close the gap between what their current assessment is and how to make it a good perform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1F785-98EC-4F80-8553-F99EF9439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27552-2035-4B98-ADBA-BA64F1F638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7BB7C-DC88-49BD-8100-FA97CD8AE6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2D499-C052-490F-A181-62C8DDD87F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F7323-8BC9-4713-8BC1-70542D3C31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D5B31-2DD6-4F39-976C-925BC24207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87EC3-7742-4C85-B822-E2F0DE7C80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1EA25-BB2F-4D1D-AD39-A57072682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462A8-9602-4578-9DD9-FF9EEE0798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003C3-0308-4466-A889-E316814722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98CA3-3A31-4FC5-BD42-8D578C97F1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C69AE-3A27-475B-B21D-CCD0BAC8E4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B27B-EBE1-45DF-A0C0-04150F962C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7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6F4F-74FA-44AC-87DA-C0B50CB414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Responding to Students</a:t>
            </a:r>
            <a:br>
              <a:rPr sz="3200"/>
            </a:b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plenar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3"/>
          <a:srcRect l="5725" t="0" r="5809" b="0"/>
          <a:stretch/>
        </p:blipFill>
        <p:spPr>
          <a:xfrm>
            <a:off x="0" y="4114800"/>
            <a:ext cx="3657600" cy="2743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rcRect l="5554" t="0" r="5554" b="0"/>
          <a:stretch/>
        </p:blipFill>
        <p:spPr>
          <a:xfrm>
            <a:off x="2428920" y="1197000"/>
            <a:ext cx="4286160" cy="3214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4571640"/>
            <a:ext cx="7358040" cy="1197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nticipat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358040" cy="1197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79" name="Never run into a tre#2F0208.mov" descr="/Users/mariansmall/Desktop/Final plenary 2.ppt_media/Never run into a tree - YouTube-1.mov"/>
          <p:cNvPicPr/>
          <p:nvPr/>
        </p:nvPicPr>
        <p:blipFill>
          <a:blip r:embed="rId1"/>
          <a:stretch/>
        </p:blipFill>
        <p:spPr>
          <a:xfrm>
            <a:off x="2666880" y="1162080"/>
            <a:ext cx="5694480" cy="427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rcRect l="25856" t="1407" r="25723" b="1407"/>
          <a:stretch/>
        </p:blipFill>
        <p:spPr>
          <a:xfrm>
            <a:off x="5438880" y="1241280"/>
            <a:ext cx="2884320" cy="3840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81" name="Rectangle 2"/>
          <p:cNvSpPr/>
          <p:nvPr/>
        </p:nvSpPr>
        <p:spPr>
          <a:xfrm>
            <a:off x="795240" y="933480"/>
            <a:ext cx="3929040" cy="44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ag contains  10 red marbles and 3 blue marbl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another bag, you are a lot less likely to pick red, but only a little more likely to pick b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in the ba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uppose you make it a lot less likely to pick red.  What happened to blue?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else could be in the bag?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se a bag with reds, blues and yellows...experiment..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ennie’s Penn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1544760" cy="1234800"/>
          </a:xfrm>
          <a:prstGeom prst="rect">
            <a:avLst/>
          </a:prstGeom>
          <a:ln w="0">
            <a:noFill/>
          </a:ln>
        </p:spPr>
      </p:pic>
      <p:pic>
        <p:nvPicPr>
          <p:cNvPr id="85" name="Bennies Pennies-1.mov" descr="/Users/mariansmall/Desktop/Final plenary 2.ppt_media/Bennies Pennies-1.mov"/>
          <p:cNvPicPr/>
          <p:nvPr/>
        </p:nvPicPr>
        <p:blipFill>
          <a:blip r:embed="rId2"/>
          <a:stretch/>
        </p:blipFill>
        <p:spPr>
          <a:xfrm>
            <a:off x="2054160" y="1430280"/>
            <a:ext cx="6951600" cy="463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bought 3 things with 4 pennies each.  Can anything more than 4 pennies work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on’t think fives work, then what about six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think there there any more that work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ennie’s Penn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3830760" y="2751120"/>
            <a:ext cx="1476360" cy="1508040"/>
          </a:xfrm>
          <a:prstGeom prst="rect">
            <a:avLst/>
          </a:prstGeom>
          <a:ln w="0">
            <a:noFill/>
          </a:ln>
          <a:effectLst>
            <a:outerShdw dist="228593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4946760" y="652320"/>
            <a:ext cx="1968480" cy="1973520"/>
          </a:xfrm>
          <a:prstGeom prst="rect">
            <a:avLst/>
          </a:prstGeom>
          <a:ln w="0">
            <a:noFill/>
          </a:ln>
          <a:effectLst>
            <a:outerShdw dist="228593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4867200" y="4616280"/>
            <a:ext cx="1758960" cy="1776600"/>
          </a:xfrm>
          <a:prstGeom prst="rect">
            <a:avLst/>
          </a:prstGeom>
          <a:ln w="0">
            <a:noFill/>
          </a:ln>
          <a:effectLst>
            <a:outerShdw dist="228593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91" name="Picture 4" descr=""/>
          <p:cNvPicPr/>
          <p:nvPr/>
        </p:nvPicPr>
        <p:blipFill>
          <a:blip r:embed="rId4"/>
          <a:stretch/>
        </p:blipFill>
        <p:spPr>
          <a:xfrm>
            <a:off x="1830240" y="4027320"/>
            <a:ext cx="1968480" cy="1973520"/>
          </a:xfrm>
          <a:prstGeom prst="rect">
            <a:avLst/>
          </a:prstGeom>
          <a:ln w="0">
            <a:noFill/>
          </a:ln>
          <a:effectLst>
            <a:outerShdw dist="228593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92" name="Picture 5" descr=""/>
          <p:cNvPicPr/>
          <p:nvPr/>
        </p:nvPicPr>
        <p:blipFill>
          <a:blip r:embed="rId5"/>
          <a:stretch/>
        </p:blipFill>
        <p:spPr>
          <a:xfrm>
            <a:off x="6670800" y="2759040"/>
            <a:ext cx="1966680" cy="1973160"/>
          </a:xfrm>
          <a:prstGeom prst="rect">
            <a:avLst/>
          </a:prstGeom>
          <a:ln w="0">
            <a:noFill/>
          </a:ln>
          <a:effectLst>
            <a:outerShdw dist="228593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93" name="Picture 6" descr=""/>
          <p:cNvPicPr/>
          <p:nvPr/>
        </p:nvPicPr>
        <p:blipFill>
          <a:blip r:embed="rId6"/>
          <a:stretch/>
        </p:blipFill>
        <p:spPr>
          <a:xfrm>
            <a:off x="285840" y="428760"/>
            <a:ext cx="1968480" cy="1973160"/>
          </a:xfrm>
          <a:prstGeom prst="rect">
            <a:avLst/>
          </a:prstGeom>
          <a:ln w="0">
            <a:noFill/>
          </a:ln>
          <a:effectLst>
            <a:outerShdw dist="228593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94" name="Picture 7" descr=""/>
          <p:cNvPicPr/>
          <p:nvPr/>
        </p:nvPicPr>
        <p:blipFill>
          <a:blip r:embed="rId7"/>
          <a:stretch/>
        </p:blipFill>
        <p:spPr>
          <a:xfrm>
            <a:off x="98280" y="3125880"/>
            <a:ext cx="1476360" cy="1508040"/>
          </a:xfrm>
          <a:prstGeom prst="rect">
            <a:avLst/>
          </a:prstGeom>
          <a:ln w="0">
            <a:noFill/>
          </a:ln>
          <a:effectLst>
            <a:outerShdw dist="228593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95" name="Picture 8" descr=""/>
          <p:cNvPicPr/>
          <p:nvPr/>
        </p:nvPicPr>
        <p:blipFill>
          <a:blip r:embed="rId8"/>
          <a:stretch/>
        </p:blipFill>
        <p:spPr>
          <a:xfrm>
            <a:off x="7153200" y="196920"/>
            <a:ext cx="1758960" cy="1776240"/>
          </a:xfrm>
          <a:prstGeom prst="rect">
            <a:avLst/>
          </a:prstGeom>
          <a:ln w="0">
            <a:noFill/>
          </a:ln>
          <a:effectLst>
            <a:outerShdw dist="228593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96" name="Picture 9" descr=""/>
          <p:cNvPicPr/>
          <p:nvPr/>
        </p:nvPicPr>
        <p:blipFill>
          <a:blip r:embed="rId9"/>
          <a:stretch/>
        </p:blipFill>
        <p:spPr>
          <a:xfrm>
            <a:off x="9055080" y="-1687680"/>
            <a:ext cx="1758960" cy="1776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"/>
          <p:cNvPicPr/>
          <p:nvPr/>
        </p:nvPicPr>
        <p:blipFill>
          <a:blip r:embed="rId10"/>
          <a:stretch/>
        </p:blipFill>
        <p:spPr>
          <a:xfrm>
            <a:off x="2697120" y="527040"/>
            <a:ext cx="1758960" cy="1776600"/>
          </a:xfrm>
          <a:prstGeom prst="rect">
            <a:avLst/>
          </a:prstGeom>
          <a:ln w="0">
            <a:noFill/>
          </a:ln>
          <a:effectLst>
            <a:outerShdw dist="228593" dir="2700000" blurRad="0" rotWithShape="0">
              <a:srgbClr val="808080">
                <a:alpha val="75000"/>
              </a:srgbClr>
            </a:outerShdw>
          </a:effectLst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Counting Coins_Gr3_2-1.mov" descr="/Users/mariansmall/Desktop/Final plenary 2.ppt_media/Counting Coins_Gr3_2-1.mov"/>
          <p:cNvPicPr/>
          <p:nvPr/>
        </p:nvPicPr>
        <p:blipFill>
          <a:blip r:embed="rId1"/>
          <a:stretch/>
        </p:blipFill>
        <p:spPr>
          <a:xfrm>
            <a:off x="1295280" y="685800"/>
            <a:ext cx="6791400" cy="452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you start with the pennies firs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think there is another order you can count the coins in that might be fast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ounting Coins_Gr3_4-1.mov" descr="/Users/mariansmall/Desktop/Final plenary 2.ppt_media/Counting Coins_Gr3_4-1.mov"/>
          <p:cNvPicPr/>
          <p:nvPr/>
        </p:nvPicPr>
        <p:blipFill>
          <a:blip r:embed="rId1"/>
          <a:stretch/>
        </p:blipFill>
        <p:spPr>
          <a:xfrm>
            <a:off x="838080" y="304920"/>
            <a:ext cx="7794720" cy="519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6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rcRect l="0" t="5401" r="0" b="5213"/>
          <a:stretch/>
        </p:blipFill>
        <p:spPr>
          <a:xfrm>
            <a:off x="5105520" y="1447920"/>
            <a:ext cx="2884320" cy="3840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wesome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544920" cy="4017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94000"/>
          </a:bodyPr>
          <a:p>
            <a:pPr marL="535680" indent="-321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hen a deadline is extended unexpected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5680" indent="-321840">
              <a:lnSpc>
                <a:spcPct val="100000"/>
              </a:lnSpc>
              <a:spcBef>
                <a:spcPts val="20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hen your suitcase tumbles down the luggage chute first after a long f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5680" indent="-321840">
              <a:lnSpc>
                <a:spcPct val="100000"/>
              </a:lnSpc>
              <a:spcBef>
                <a:spcPts val="20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hen you nudge the person snoring next to you and it makes them st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5680" indent="-321840">
              <a:lnSpc>
                <a:spcPct val="100000"/>
              </a:lnSpc>
              <a:spcBef>
                <a:spcPts val="20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at teac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count with the nickels and by 5’s it was fast, but when you count with the dimes it was slower. 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Counting Coins_Gr3_5-1.mov" descr="/Users/mariansmall/Desktop/Final plenary 2.ppt_media/Counting Coins_Gr3_5-1.mov"/>
          <p:cNvPicPr/>
          <p:nvPr/>
        </p:nvPicPr>
        <p:blipFill>
          <a:blip r:embed="rId1"/>
          <a:stretch/>
        </p:blipFill>
        <p:spPr>
          <a:xfrm>
            <a:off x="685800" y="152280"/>
            <a:ext cx="8001000" cy="533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0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3733920" y="1447920"/>
            <a:ext cx="758880" cy="19857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1009800" y="3098880"/>
            <a:ext cx="735804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DejaVu LGC Sans Condensed"/>
              </a:rPr>
              <a:t>What could it be?  </a:t>
            </a: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268200" y="0"/>
            <a:ext cx="88758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DejaVu LGC Sans Condensed"/>
              </a:rPr>
              <a:t>A fraction is a bit more than  </a:t>
            </a: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Greater 2-3rds_Stude#2F0212.mov" descr="/Users/mariansmall/Desktop/Final plenary 2.ppt_media/Greater 2-3rds_Student Pair 2-1.mov"/>
          <p:cNvPicPr/>
          <p:nvPr/>
        </p:nvPicPr>
        <p:blipFill>
          <a:blip r:embed="rId1"/>
          <a:stretch/>
        </p:blipFill>
        <p:spPr>
          <a:xfrm>
            <a:off x="990720" y="380880"/>
            <a:ext cx="7391160" cy="492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4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93520" y="1419120"/>
            <a:ext cx="7358040" cy="4019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ould you get even closer? 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Do you need to calculate percents to know if 3/4 is bigger than 2/3?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b5ca9"/>
                </a:solidFill>
                <a:latin typeface="Arial"/>
              </a:rPr>
              <a:t>Greater than two thirds problem </a:t>
            </a:r>
            <a:br>
              <a:rPr sz="41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udent Video 1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Greater 2-3rds_Stude#2F0214.mov" descr="/Users/mariansmall/Desktop/Final plenary 2.ppt_media/Greater 2-3rds_Student Pair 1-1.mov"/>
          <p:cNvPicPr/>
          <p:nvPr/>
        </p:nvPicPr>
        <p:blipFill>
          <a:blip r:embed="rId1"/>
          <a:stretch/>
        </p:blipFill>
        <p:spPr>
          <a:xfrm>
            <a:off x="914400" y="228600"/>
            <a:ext cx="7718400" cy="514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8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Help me understand why you used 12’ths.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b5ca9"/>
                </a:solidFill>
                <a:latin typeface="Arial"/>
              </a:rPr>
              <a:t>Greater than two thirds problem </a:t>
            </a: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 Student Video 2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rcRect l="0" t="7644" r="0" b="7444"/>
          <a:stretch/>
        </p:blipFill>
        <p:spPr>
          <a:xfrm>
            <a:off x="3092400" y="847800"/>
            <a:ext cx="2527200" cy="3214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8520" y="4258800"/>
            <a:ext cx="7358040" cy="1197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questions?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eedba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rcRect l="12322" t="0" r="12559" b="0"/>
          <a:stretch/>
        </p:blipFill>
        <p:spPr>
          <a:xfrm>
            <a:off x="4800600" y="1447920"/>
            <a:ext cx="2884320" cy="3840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6" name="Picture 3" descr=""/>
          <p:cNvPicPr/>
          <p:nvPr/>
        </p:nvPicPr>
        <p:blipFill>
          <a:blip r:embed="rId2"/>
          <a:srcRect l="23154" t="0" r="23045" b="0"/>
          <a:stretch/>
        </p:blipFill>
        <p:spPr>
          <a:xfrm>
            <a:off x="914400" y="1447920"/>
            <a:ext cx="2884320" cy="3840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eedba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rcRect l="9926" t="0" r="9872" b="0"/>
          <a:stretch/>
        </p:blipFill>
        <p:spPr>
          <a:xfrm>
            <a:off x="5181480" y="1447920"/>
            <a:ext cx="2884680" cy="3840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9" name="Picture 3" descr=""/>
          <p:cNvPicPr/>
          <p:nvPr/>
        </p:nvPicPr>
        <p:blipFill>
          <a:blip r:embed="rId2"/>
          <a:srcRect l="9319" t="0" r="9333" b="0"/>
          <a:stretch/>
        </p:blipFill>
        <p:spPr>
          <a:xfrm>
            <a:off x="1066680" y="1447920"/>
            <a:ext cx="2884680" cy="3840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iming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313000" y="1195560"/>
            <a:ext cx="3949560" cy="39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700" spc="-1" strike="noStrike">
                <a:solidFill>
                  <a:srgbClr val="2b5ca9"/>
                </a:solidFill>
                <a:latin typeface="Arial"/>
              </a:rPr>
              <a:t>feedback</a:t>
            </a:r>
            <a:endParaRPr b="0" lang="en-US" sz="77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25360" y="2081160"/>
            <a:ext cx="290196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uc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2670120" y="3268800"/>
            <a:ext cx="3795840" cy="251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b5ca9"/>
                </a:solidFill>
                <a:latin typeface="Arial"/>
              </a:rPr>
              <a:t>feedback</a:t>
            </a:r>
            <a:endParaRPr b="0" lang="en-US" sz="7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33520" y="1371600"/>
            <a:ext cx="31874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6880320" cy="32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85600" y="1904760"/>
            <a:ext cx="7358040" cy="2678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2b5ca9"/>
                </a:solidFill>
                <a:latin typeface="Arial"/>
              </a:rPr>
              <a:t>feedback</a:t>
            </a:r>
            <a:endParaRPr b="0" lang="en-US" sz="79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92640" y="1519920"/>
            <a:ext cx="16117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4628520" y="1017720"/>
            <a:ext cx="334728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358320" y="4183560"/>
            <a:ext cx="1824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clarity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847800" y="4499640"/>
            <a:ext cx="22471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9360" y="533520"/>
            <a:ext cx="91346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mportant is our response to students in the math classroo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3657600" y="3276720"/>
            <a:ext cx="4946760" cy="22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search shows that when learners are in control of and use results to modify their own learning, they are more self-regulated and become effective, persistent, resourceful, confident and higher achiev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Chappuis, &amp; Chappuis, 2008; Nicol, &amp; Macfarlane-Dick,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1676520"/>
            <a:ext cx="494640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Feedback has been shown to be one of the most significant activities a teacher can engage in to improve student achievement (Hattie, 1992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s.yearley</cp:lastModifiedBy>
  <dcterms:modified xsi:type="dcterms:W3CDTF">2011-08-19T18:06:40Z</dcterms:modified>
  <cp:revision>8</cp:revision>
  <dc:subject/>
  <dc:title>&lt;Title&gt;</dc:title>
</cp:coreProperties>
</file>